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2C48-01C8-4407-A99D-E208A8BD72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A2A0-627A-4607-84CA-A31FDC2BCA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0598-7A9D-4312-8343-D982650F8C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FC32-5990-4614-941C-A0F8D9316B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7AB5-7837-4F5E-8CDB-EAC39057DF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84F9-CF8C-4546-AA2A-0C27899810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EAB3-D2CD-42A5-A3E9-0620EC8F3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D74-17F0-4CA1-8A7D-B243CBFC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567-B34C-41AD-A090-C97B9205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469-D1BE-4E05-88C2-E08E57B3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FC5-3A8E-42B9-948F-3AA74E3F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8B90-96B0-4FA1-886C-FD9E2E6F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403E-6919-427C-8901-CB55BE79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9C83-B0EA-46EB-B773-DA23C30A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CAF4-83C7-4AA5-84F4-B14F0CE3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E1E0-738B-4842-9EFD-4E8B5D1C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87D-CE8C-4EEA-9EDF-24EA6B93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1C98-CA49-48D8-AE71-C8117DD9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851-482C-4A7F-92E2-D5593263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6D88-24A8-4091-840F-DAABE33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8BE3-F4A1-4C84-B5D0-6AC64049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BEEE-BB75-4FF9-9C00-38D93609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010E-141E-4274-AD14-57DC15E3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96F2-0CD7-4AE2-8320-ABA6D3E3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440AB-44F8-44C9-817D-B2681682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B76E-1D1A-46B6-A93C-6B196477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FA45-B49E-40A5-95F5-DA3D5165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E970-925C-42B6-88AD-11123A6E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363D-AA14-46AE-87D9-9F0F4071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A94-7C49-4C3B-B528-FBB8E088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979F-CE9B-40DA-96D1-795DB436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648E-419C-4079-8F7C-F18F0DCD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A81A-F9F3-4D3C-9D7E-FCAC7AA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BB17-577D-4FCD-BFA1-B8F0397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316B-BD1F-4005-B260-313AE1A9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5AD1-04AA-4DA1-85A0-D0B510A7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D67A5-C37C-40D6-B426-82488FF3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B9FC-15A9-4451-859E-3387293F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55ED-B863-455B-9435-FF30E3E2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BE2D-232B-4356-8894-08ED6662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FBC-AF39-4252-BB1B-F9D630CC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2134-7EB6-4739-A618-FC3C4FB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B418-AB28-4BC0-B9A7-0823D05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E593-D40A-40DA-AA38-78AFA9A3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E290-0E48-477F-98F2-F34E0E52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FB95B-E2C3-4603-9C51-4B0A0A33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2755-4D59-404E-AB89-70E0D5E9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4555-3B22-4291-85D8-3EE2501B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4FFE8-4E3C-4C11-8BC7-6BCDD209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A32D-591D-4645-BE6B-BDB36055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840EF-0678-4831-A89B-3908784E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1A9-6175-4F43-BC29-2037A0E0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7B47E-2C1A-4AE6-A2B8-F81A8C9C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E0F47-2585-4F04-9F79-A94350F4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7C5DA-28CA-4679-80AB-77157DDA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C5D18-0DCC-462C-B2E3-9CF337AF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1AC17-C868-4E61-8504-8AB7765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1102A-99A7-4F93-94A5-D85DAB2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BBF32-D72D-4514-B180-185F1B1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7EE98-89D8-4A8F-87DB-FAB1379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49E82-D3F3-4B2F-A6C0-009A106E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52A20-B3B5-4044-BD8F-2F80D343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BA8-21C2-46ED-A4C5-A06D2EB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27B28-D5E6-42A9-A35C-55179987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0404-2298-438F-9609-6B2C1A7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07469-AB06-449F-814A-5473F8E0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96C3D-0B56-45AD-9AAC-D4D6B97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7F884-29E1-4639-A826-C7B99AF1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1B5C0-72C6-467B-8A6E-FB1EFD62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994AC-7AD7-491D-A17F-74B2E1CB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B99FF-151F-4FC5-ABED-43F7078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79C0E-1005-41F5-8D60-D6141FFE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8993-203D-4BC4-8803-C8B1914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1A5-C4C3-4CC0-ADBE-480C32F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72B4D-74D3-4D01-B616-AD524F9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CA2A-D53D-4DAB-8F5B-F0783389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51F4-7FE3-427E-9658-4D058664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B29D2-5F76-4564-BD1E-F0F29B6D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09DA5-EB78-4CD2-95C0-209219F8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8815-46A9-43BF-BFBF-D471C72E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5923D-9202-4A21-BE4E-96310A41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BC690-9F3F-4332-9739-528C3B9F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C7AA3-27E5-44B9-9600-69C37F95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56E69-1B7A-402D-BEE6-2295437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5FD-A94E-44EE-A9F3-E1DF0114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1407E-01CA-4631-80A7-7250EDC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4C67-4983-4205-837C-FBA8765A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6BBE8-9DE2-4744-9586-5AC41616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1841E-2231-451D-B193-FECCCBCD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0612A-DB77-4B7A-8FA0-C638778C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306BF-4054-4BED-9DCE-B3588205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23246-B520-487E-B807-81C1B711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E7235-98D7-4FEA-A8F0-70E2F76B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923F3-DB15-4E97-8D51-9B61FFE5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E9BB3-4AF1-4217-9F80-3DA0984F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E12-9FFA-49E5-8AA2-2675AC60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EFB6D-7CCE-4FAA-9FA0-5DA9C6A1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4AA2E-B52E-45E0-BF0E-14D3FE41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CFB61-3DEF-4C78-B8C8-85A2955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778AC-F9C1-4587-9013-3DF9282B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3622F-42AD-4E40-9EF6-11087468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86EEA-1714-4687-8307-5F64C908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86BF2-C9EC-45B9-A0DF-698E07BE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5CF-81FB-4E33-8495-44158512E94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1B30-00AD-4C62-893B-2792C421E65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B194-1DCC-4030-8887-70089E52A95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AC79-D2D5-4C7A-B7D6-DB4580C327D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D602-C15F-45BC-B856-58BAC5F85FA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CE59-243A-44EA-9C97-E576D819A37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115D-71A5-4315-AB60-748E3C0E359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DA82-CB03-4500-B729-9054D6B5B02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5"/>
          <p:cNvSpPr txBox="1"/>
          <p:nvPr/>
        </p:nvSpPr>
        <p:spPr>
          <a:xfrm>
            <a:off x="2286000" y="2071800"/>
            <a:ext cx="600084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рок русского языка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3071880" y="5072040"/>
            <a:ext cx="371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ГУ СОШ №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Есекенова Салтанат Балаб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о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е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Облако 5"/>
          <p:cNvGrpSpPr/>
          <p:nvPr/>
        </p:nvGrpSpPr>
        <p:grpSpPr>
          <a:xfrm>
            <a:off x="4224240" y="1468440"/>
            <a:ext cx="976320" cy="1335240"/>
            <a:chOff x="4224240" y="1468440"/>
            <a:chExt cx="976320" cy="1335240"/>
          </a:xfrm>
        </p:grpSpPr>
        <p:pic>
          <p:nvPicPr>
            <p:cNvPr id="383" name="Облако 5" descr=""/>
            <p:cNvPicPr/>
            <p:nvPr/>
          </p:nvPicPr>
          <p:blipFill>
            <a:blip r:embed="rId2"/>
            <a:stretch/>
          </p:blipFill>
          <p:spPr>
            <a:xfrm>
              <a:off x="4224240" y="146844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403880" y="168444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Облако 7"/>
          <p:cNvGrpSpPr/>
          <p:nvPr/>
        </p:nvGrpSpPr>
        <p:grpSpPr>
          <a:xfrm>
            <a:off x="4224240" y="4754520"/>
            <a:ext cx="976320" cy="1335240"/>
            <a:chOff x="4224240" y="4754520"/>
            <a:chExt cx="976320" cy="1335240"/>
          </a:xfrm>
        </p:grpSpPr>
        <p:pic>
          <p:nvPicPr>
            <p:cNvPr id="386" name="Облако 7" descr=""/>
            <p:cNvPicPr/>
            <p:nvPr/>
          </p:nvPicPr>
          <p:blipFill>
            <a:blip r:embed="rId3"/>
            <a:stretch/>
          </p:blipFill>
          <p:spPr>
            <a:xfrm>
              <a:off x="4224240" y="475452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403880" y="497052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Облако 8"/>
          <p:cNvGrpSpPr/>
          <p:nvPr/>
        </p:nvGrpSpPr>
        <p:grpSpPr>
          <a:xfrm>
            <a:off x="4297320" y="2682720"/>
            <a:ext cx="969840" cy="1339920"/>
            <a:chOff x="4297320" y="2682720"/>
            <a:chExt cx="969840" cy="1339920"/>
          </a:xfrm>
        </p:grpSpPr>
        <p:pic>
          <p:nvPicPr>
            <p:cNvPr id="389" name="Облако 8" descr=""/>
            <p:cNvPicPr/>
            <p:nvPr/>
          </p:nvPicPr>
          <p:blipFill>
            <a:blip r:embed="rId4"/>
            <a:stretch/>
          </p:blipFill>
          <p:spPr>
            <a:xfrm>
              <a:off x="4297320" y="2682720"/>
              <a:ext cx="9698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475160" y="2898720"/>
              <a:ext cx="5605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Облако 9"/>
          <p:cNvGrpSpPr/>
          <p:nvPr/>
        </p:nvGrpSpPr>
        <p:grpSpPr>
          <a:xfrm>
            <a:off x="4602240" y="3657600"/>
            <a:ext cx="1152360" cy="1212840"/>
            <a:chOff x="4602240" y="3657600"/>
            <a:chExt cx="1152360" cy="1212840"/>
          </a:xfrm>
        </p:grpSpPr>
        <p:pic>
          <p:nvPicPr>
            <p:cNvPr id="392" name="Облако 9" descr=""/>
            <p:cNvPicPr/>
            <p:nvPr/>
          </p:nvPicPr>
          <p:blipFill>
            <a:blip r:embed="rId5"/>
            <a:stretch/>
          </p:blipFill>
          <p:spPr>
            <a:xfrm>
              <a:off x="4602240" y="3657600"/>
              <a:ext cx="1152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 rot="1723200">
              <a:off x="4874760" y="3803400"/>
              <a:ext cx="5605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я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3000240" y="2000160"/>
            <a:ext cx="35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1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3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4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5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571840" y="15717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Клю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5429160" y="15001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Оцен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4429080" y="2143080"/>
            <a:ext cx="4000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Нет ошибок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1     ошибка-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2    ошибки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Больше -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Ы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"/>
          <p:cNvSpPr/>
          <p:nvPr/>
        </p:nvSpPr>
        <p:spPr>
          <a:xfrm>
            <a:off x="2786040" y="27860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2714760" y="4214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5286240" y="27147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3000240" y="48578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9"/>
          <p:cNvSpPr/>
          <p:nvPr/>
        </p:nvSpPr>
        <p:spPr>
          <a:xfrm>
            <a:off x="2786040" y="5357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0"/>
          <p:cNvSpPr/>
          <p:nvPr/>
        </p:nvSpPr>
        <p:spPr>
          <a:xfrm>
            <a:off x="2714760" y="35002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1"/>
          <p:cNvSpPr/>
          <p:nvPr/>
        </p:nvSpPr>
        <p:spPr>
          <a:xfrm>
            <a:off x="535788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2"/>
          <p:cNvSpPr/>
          <p:nvPr/>
        </p:nvSpPr>
        <p:spPr>
          <a:xfrm>
            <a:off x="5429160" y="3429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5214960" y="4786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5143680" y="5357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2571840" y="1643040"/>
            <a:ext cx="5572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Распредели слова в два столб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"/>
          <p:cNvSpPr/>
          <p:nvPr/>
        </p:nvSpPr>
        <p:spPr>
          <a:xfrm>
            <a:off x="5715000" y="21430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2857680" y="335772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2786040" y="2143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2786040" y="40006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564372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5572080" y="3429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5572080" y="2786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2786040" y="27147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2857680" y="4572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4"/>
          <p:cNvSpPr/>
          <p:nvPr/>
        </p:nvSpPr>
        <p:spPr>
          <a:xfrm>
            <a:off x="2857680" y="528624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2643120" y="150012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6"/>
          <p:cNvSpPr/>
          <p:nvPr/>
        </p:nvSpPr>
        <p:spPr>
          <a:xfrm>
            <a:off x="2643120" y="1857240"/>
            <a:ext cx="564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писатель, щенок, дятел, читатель, олень, ученик, дед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е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книга, орех, шкаф, загадка, грусть, перец,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Овал 15"/>
          <p:cNvSpPr/>
          <p:nvPr/>
        </p:nvSpPr>
        <p:spPr>
          <a:xfrm>
            <a:off x="2571840" y="1643040"/>
            <a:ext cx="1928880" cy="12859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7"/>
          <p:cNvSpPr/>
          <p:nvPr/>
        </p:nvSpPr>
        <p:spPr>
          <a:xfrm>
            <a:off x="4929120" y="2428920"/>
            <a:ext cx="1500120" cy="71424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18"/>
          <p:cNvSpPr/>
          <p:nvPr/>
        </p:nvSpPr>
        <p:spPr>
          <a:xfrm rot="21208800">
            <a:off x="2896920" y="4016520"/>
            <a:ext cx="1571400" cy="7855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59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3"/>
          <p:cNvSpPr/>
          <p:nvPr/>
        </p:nvSpPr>
        <p:spPr>
          <a:xfrm>
            <a:off x="6786720" y="192888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24"/>
          <p:cNvSpPr/>
          <p:nvPr/>
        </p:nvSpPr>
        <p:spPr>
          <a:xfrm>
            <a:off x="3857760" y="5286240"/>
            <a:ext cx="1000080" cy="57168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25"/>
          <p:cNvSpPr/>
          <p:nvPr/>
        </p:nvSpPr>
        <p:spPr>
          <a:xfrm>
            <a:off x="5072040" y="435780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26"/>
          <p:cNvSpPr/>
          <p:nvPr/>
        </p:nvSpPr>
        <p:spPr>
          <a:xfrm>
            <a:off x="6572160" y="335772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Прямая со стрелкой 28"/>
          <p:cNvCxnSpPr/>
          <p:nvPr/>
        </p:nvCxnSpPr>
        <p:spPr>
          <a:xfrm>
            <a:off x="4500720" y="2499840"/>
            <a:ext cx="42912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6" name="Прямая со стрелкой 29"/>
          <p:cNvCxnSpPr/>
          <p:nvPr/>
        </p:nvCxnSpPr>
        <p:spPr>
          <a:xfrm flipH="1">
            <a:off x="3499560" y="3071520"/>
            <a:ext cx="72360" cy="78660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7" name="Прямая со стрелкой 31"/>
          <p:cNvCxnSpPr/>
          <p:nvPr/>
        </p:nvCxnSpPr>
        <p:spPr>
          <a:xfrm>
            <a:off x="6214680" y="3214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8" name="Прямая со стрелкой 32"/>
          <p:cNvCxnSpPr/>
          <p:nvPr/>
        </p:nvCxnSpPr>
        <p:spPr>
          <a:xfrm>
            <a:off x="4571640" y="4357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9" name="Прямая со стрелкой 33"/>
          <p:cNvCxnSpPr/>
          <p:nvPr/>
        </p:nvCxnSpPr>
        <p:spPr>
          <a:xfrm>
            <a:off x="3929040" y="4929120"/>
            <a:ext cx="286560" cy="28656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40" name="Прямая со стрелкой 35"/>
          <p:cNvCxnSpPr/>
          <p:nvPr/>
        </p:nvCxnSpPr>
        <p:spPr>
          <a:xfrm flipV="1">
            <a:off x="6357600" y="242820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sp>
        <p:nvSpPr>
          <p:cNvPr id="441" name="TextBox 38"/>
          <p:cNvSpPr/>
          <p:nvPr/>
        </p:nvSpPr>
        <p:spPr>
          <a:xfrm>
            <a:off x="4357800" y="157176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Lucida Sans Unicode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2286000" y="2357280"/>
            <a:ext cx="6000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урок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15:11Z</dcterms:created>
  <dc:creator>Oksana</dc:creator>
  <dc:description/>
  <dc:language>en-US</dc:language>
  <cp:lastModifiedBy>Дом</cp:lastModifiedBy>
  <dcterms:modified xsi:type="dcterms:W3CDTF">2014-10-16T05:12:06Z</dcterms:modified>
  <cp:revision>16</cp:revision>
  <dc:subject/>
  <dc:title>Слайд 1</dc:title>
</cp:coreProperties>
</file>